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0F78-8B5F-4310-B816-5D2E5ABA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1D58-DDF5-41D4-9A1D-959A8FEB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7EE7-9474-4122-B3A9-76E901BD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3CBA-994E-4184-8629-82178849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DB95-45CF-4FBA-9AD4-07489BBF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5D08-8DDC-4639-80B5-333F4CA6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6356-0CDD-474B-A0FF-20192FEC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44CC-4385-4DB7-A767-FD8474E2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35D4-D085-4477-8EB4-E565180B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4C45-AD83-4265-A223-D0B942A8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CCC6-98B2-42DC-A0A1-8FE75B25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1F5-B41E-4B28-992B-5859081C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B680-45FE-4FBA-88D9-6AC8AC61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F0B2-944E-4CBF-B56D-B4915FD3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3A82-DA4C-4039-8C9C-7527E617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50EF-706C-4843-B6B4-EC2771EB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B734-F3D1-4855-B5C6-0F769741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C6D-EF81-49A8-9FF0-A510C9B4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5B1-DF95-4D59-B076-FCF32792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FB9-5520-4970-B6DF-798C1257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34B-6734-4778-B47D-6A26DA38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49F6-AD7B-4EA2-87A5-50BB4BA7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098-DC14-4402-87D4-CDB98868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5E59-1E00-4385-98D0-EE2DA50E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8B2A-1AA6-4484-8650-1EA67580B56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15C1-7CCC-48BA-B975-E8F1697FDFB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apyrus"/>
              </a:rPr>
              <a:t>Conflict of Interests</a:t>
            </a:r>
            <a:br>
              <a:rPr sz="3600"/>
            </a:br>
            <a:r>
              <a:rPr b="1" i="1" lang="en-US" sz="2800" spc="-1" strike="noStrike">
                <a:solidFill>
                  <a:srgbClr val="003366"/>
                </a:solidFill>
                <a:latin typeface="Papyrus"/>
              </a:rPr>
              <a:t>The Politics of American Education</a:t>
            </a:r>
            <a:br>
              <a:rPr sz="2800"/>
            </a:br>
            <a:br>
              <a:rPr sz="2400"/>
            </a:br>
            <a:r>
              <a:rPr b="1" lang="en-US" sz="1800" spc="-1" strike="noStrike">
                <a:solidFill>
                  <a:srgbClr val="003366"/>
                </a:solidFill>
                <a:latin typeface="Papyrus"/>
              </a:rPr>
              <a:t>by Joel Spring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2819520"/>
            <a:ext cx="40129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Papyrus"/>
              </a:rPr>
              <a:t>Chapter 10: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Papyrus"/>
              </a:rPr>
              <a:t>Political Uses of the Cour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Papyrus"/>
              </a:rPr>
              <a:t>by Trish Walsh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Papyrus"/>
              </a:rPr>
              <a:t>September 19, 2008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48520" y="620280"/>
            <a:ext cx="7751160" cy="119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Papyrus"/>
              </a:rPr>
              <a:t>Political Uses of the Court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ourt system is usually involved in class action law suits against school districts after problems have traveled through school boards, state courts and other federal governmen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cases are regarding religion, race, language, disabilities, and constitutional amend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Papyrus"/>
              </a:rPr>
              <a:t>Problem #1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resentation in a class action law su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the group suing really representative of the population it claims to represen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es the group represent the array of viewpoints among the specified clas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urts’ final decisions have far-reaching impact in societ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Papyrus"/>
              </a:rPr>
              <a:t>Problem #2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courts’ ability to deal with evidence in educational c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judges understand the evidence well enough to rule and specify the best remedi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judges understand the consequences of their recommendations in educational setting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idence in educational cases is not always presented as undisputed fact; social science data can be debatabl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Papyrus"/>
              </a:rPr>
              <a:t>Amendment Issue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Amendment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reedom of speech &amp; religion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ledge of allegiance, critical thinking/questioning, school prayer, war protes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lang="en-US" sz="2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Amendment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reedom from cruel &amp; unusual punishment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poral punish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4</a:t>
            </a:r>
            <a:r>
              <a:rPr b="1" lang="en-US" sz="2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Amendment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due process/non-discrimination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qual educational opportunities for all minority groups, equal protection under the law, students’ right to education, teachers’ right to employment, property rights, suspen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Papyrus"/>
              </a:rPr>
              <a:t>Famous Cases</a:t>
            </a: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tero v. Mesa County Valley School District #51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ocial Science concepts and evidence must be understood by judges. Legitimate representation and rulings are essenti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bson v. Hansen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t is difficult for courts to provide remedies for social problems, but they have a great impact on educational policies.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Papyrus"/>
              </a:rPr>
              <a:t>In Summation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ministrators must be prepared to deal realistically with big issues and aware of precedent set in the cour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ministrators should understand and work with school and district populations and their representatives and be in tune with the related social science da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ministrators need to help teachers be aware of potential amendment issues that could affect them inside the classroom or at schoo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3:34:21Z</dcterms:created>
  <dc:creator>Da Walsh's</dc:creator>
  <dc:description/>
  <dc:language>en-US</dc:language>
  <cp:lastModifiedBy>Da Walsh's</cp:lastModifiedBy>
  <dcterms:modified xsi:type="dcterms:W3CDTF">2008-09-18T04:28:49Z</dcterms:modified>
  <cp:revision>22</cp:revision>
  <dc:subject/>
  <dc:title>Conflict of Interests The Politics of American Education by Joel Spring</dc:title>
</cp:coreProperties>
</file>